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A7B9-B6D4-4D8D-80F4-5F1B34CD34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F76F4-31B1-4B11-9EA3-7D251644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3BAA-2CAF-4E83-9F1E-014C5433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F10A-77B5-4BDB-B8D3-B78F1D7A01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F34A-BB17-4B65-84DF-F8010E31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BCC-0395-4C17-BBE9-99231EF459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C75-64B5-48FF-BA05-8900323B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80B-9165-4564-B1F0-B196D286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382E-99F4-4E11-8773-A21C0524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FFC6-1037-4B13-AD3F-E8076D22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0696-AB63-444B-8135-4382E7AF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D46A-B941-4B14-88E3-79791692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97A-1439-4E1C-BB07-FEDE413C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661-D762-4275-A86D-9D184B11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C63-EAD3-4E3B-8D4C-D8090EB6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CDC-761A-484E-A8A5-72316DAF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61D8-FE51-4166-BF00-F6EA7A99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C6E-F812-4E5E-A742-9F69EACB8E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28D2-371A-4838-B48E-1D7D62FF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C36C-7B88-4E2C-849C-C200FDFE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056E-FF03-42B3-B803-3ED3C86C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6515-F627-446B-BE21-B8C878F3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BC37D-631E-4EA0-B91A-B9738B7E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DBE0-91B9-4A9F-A46E-0EB1184B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AE64-C21D-4438-BB97-705B163726D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E3DE-DC75-4D60-A709-E82C5FC6EFC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和抗真菌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  菌  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谱   分枝杆菌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病毒、衣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，为抑菌和杀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依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酶，阻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药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单用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55640" y="1125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二、利福平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rifampi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楷体_GB2312"/>
              </a:rPr>
              <a:t>体内过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快、完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乙酰化代谢，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协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药酶诱导剂，能加速避孕药等代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从胆汁排泄，分泌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、粪、泪液、痰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结核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风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金葡菌等敏感菌引起感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8360" y="36450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胃肠刺激反应，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，少数人出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餐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对氨基水杨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及利眠宁可减少本品在肠道的吸收，必须合用时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肝脏损害的表现及劝告病人禁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先告诉病人服用利福平可使大、小便、汗液、泪液、唾液和痰液变成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福平在潮湿环境下容易失效，故应放于干燥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对繁殖期结核杆菌有较强抑制作用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 药 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易产生耐药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与异烟肼、利福平合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后视神经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做眼科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090880" y="102564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三、乙胺丁醇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ethambutal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79560" y="173340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最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透力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联合用药，尤其结核病急性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91040" y="1170000"/>
            <a:ext cx="34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四、链霉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streptomy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较强抑菌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易产生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应用有肝毒性，联合用药参与短程疗法，不良反应明显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834200" y="1170000"/>
            <a:ext cx="45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五、吡嗪酰胺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pyrazinamide, PZ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应用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病灶内的结核杆菌生长旺盛，对药物敏感，且病灶局部血液循环丰富，药物易渗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用药和长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提高疗效、降低毒性、延缓耐药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律和足量用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二节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09120" y="2285640"/>
            <a:ext cx="2057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癣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新型隐球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白色念珠菌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1143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真菌所致疾病与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553080" y="2362320"/>
            <a:ext cx="1828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灰黄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制霉菌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特比萘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康 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两性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三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29000" y="2362320"/>
            <a:ext cx="228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浅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头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体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指甲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深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脑膜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肺  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心内膜炎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7432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57150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2666880" y="46483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5715000" y="46483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烟肼、利福平的作用机制、应用及不良反应；抗结核药应用原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两性霉素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氟康唑、氟胞嘧啶等抗真菌药的作用特点及其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熟悉：乙胺丁醇、链霉素的抗结核特点；抗真菌药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：抗结核病二线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灰黄霉素</a:t>
            </a:r>
            <a:r>
              <a:rPr b="1" lang="en-US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(griseofulvin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入皮肤角质层与角蛋白结合，干扰真菌核酸 合成，抑制其生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给药途径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有效，外用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治疗各种癣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胃肠道反应和神经系统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0948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治疗浅部真菌感染的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0920" y="2204640"/>
            <a:ext cx="80010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Verdana"/>
                <a:ea typeface="幼圆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烯类，抗菌谱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各类真菌均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阴道滴虫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9640" y="36450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用途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用于胃肠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用于皮肤、口腔、阴道真菌病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阴道霉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93480" y="1197000"/>
            <a:ext cx="32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制霉菌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nystat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克霉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clotrim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唑类抗真菌药，具有广谱抗真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局部外用治疗皮肤癣菌引起的体癣、手足癣和耳道真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含片用于治疗鹅口疮，栓剂用于治疗阴道念珠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深部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104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两性霉素</a:t>
            </a:r>
            <a:r>
              <a:rPr b="1" lang="en-US" sz="3600" spc="-1" strike="noStrike">
                <a:solidFill>
                  <a:srgbClr val="1d1496"/>
                </a:solidFill>
                <a:latin typeface="宋体"/>
                <a:ea typeface="宋体"/>
              </a:rPr>
              <a:t>B (amphotericin B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深部真菌有强大抑制作用，高浓度杀菌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与真菌细胞膜类固醇结合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增加膜的通透性，导致细胞内重要物质外漏而发挥抗菌作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选治疗深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而严重，表现为蛋白尿、管型尿和尿素氮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钾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、过敏反应和贫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刺激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射部位易发生血栓性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注过快可导致心律失常或心脏停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静滴过程或以后数小时可发生寒战、高热、恶心、呕吐、厌食、头痛、肌肉痛和关节痛，有时伴有血压降低、眩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的高热、头痛和过敏反应发生，因此静滴前半小时常需给病人服用解热镇痛药和抗组胺药，滴注液中加生理量的氢化可的松或地塞米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血栓性静脉炎的发生，静脉滴注液应适当稀释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避光密闭保存。稀释时不能用生理盐水，否则会发生沉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定期做血、尿常规，肝肾功能、血钾和心电图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胞嘧啶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flucytosin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菌机制是干扰真菌核酸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治疗敏感菌株所致的深部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效不如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易产生耐药性，故主张与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用以增强疗效，减少耐药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多见胃肠道反应及皮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酮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keto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口服广谱抗真菌药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常见胃肠道反应，少数患者出现肝损害，影响雄激素、皮质激素等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咪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mi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口服吸收少，必须静脉注射，毒性较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局部用药疗效优于克霉唑或制霉菌素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康唑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fluconazol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广谱抗真菌药，可口服，也可静脉滴注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用于各种真菌引起的脑膜炎和皮质下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耐受性较其他抗真菌药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伊曲康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itracon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唑类口服广谱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许多真菌的浅部感染，尤其是甲真菌病，治愈率高而复发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轻，一般能较好地耐受，主要为胃肠道反应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一节   抗结核病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4db8174djw1ebc93he3yqj20sf0izwmn"/>
          <p:cNvPicPr/>
          <p:nvPr/>
        </p:nvPicPr>
        <p:blipFill>
          <a:blip r:embed="rId1"/>
          <a:stretch/>
        </p:blipFill>
        <p:spPr>
          <a:xfrm>
            <a:off x="1042920" y="1173240"/>
            <a:ext cx="6985080" cy="4138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3635280" y="5516640"/>
            <a:ext cx="18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Imprint MT Shadow"/>
                <a:ea typeface="宋体"/>
              </a:rPr>
              <a:t>The en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386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线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氨水杨酸  乙硫异烟胺  卷曲霉素 环丝氨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84360" y="177336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线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烟肼    利福平    链霉素    吡嗪酰胺    乙胺丁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14560" y="1177920"/>
            <a:ext cx="189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抗结核病药包括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分枝菌酸合成，减弱结核杆菌的耐酸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杀菌和抑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，强调联合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一、异烟肼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isoniazid, INH, 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雷米封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特点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效、价廉，口服吸收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是抗结核病的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量小，穿透力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部分经乙酰化代谢，存在快、慢乙酰化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型，影响药物疗效和毒性的发生率和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轻症结核病或预防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802480" y="40752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、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应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①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神经炎和中枢神经系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 GABA↓ → CN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乙酰化多见，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量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②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化产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乙酰异烟肼（肝毒物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乙酰化多见，定期复查肝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肝功能不良症状，每月检查一次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期间应劝告患者禁酒，以减少肝损害的危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反应，如手足麻木、刺痛、烧灼感及中枢神经系统损害的症状，发现异常应及时报告医生。长期服用异烟肼时，应坚持服用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本药可干扰正常糖代谢，糖尿病患者需应用此药时，护理人员应注意观察糖尿病的病情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应空腹服药以利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酸药能抑制该药吸收，如需服用抗酸药时应告诉病人不要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45:20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